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E75D-9F00-4BAC-A219-D3F3A6331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3261-95C4-4D6D-8DAA-1098F03BD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DC40-767F-44B9-92DF-4C37BE2B4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098C-E5E6-4137-BDB5-CE060DC6D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9D15-53FC-4AA1-B7A7-4B73B6CA7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48CC-3E4C-4F81-932A-60AA15AB9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15B3-8A88-42C3-BF66-DA5E582DC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80A8-661C-4ED8-95A0-4EBFE6789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0E54-0690-49EC-A9A3-590E15FA1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46BE-CA49-454F-BF89-7715A368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70C9-5653-4B82-A20E-6BDAA39D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51B9-01BF-4D52-9AF8-1BE2BD67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52D1F-FB89-426E-8C19-2F25FD836CE5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752480"/>
            <a:ext cx="6400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لثال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Andalus"/>
              </a:rPr>
              <a:t>تطوير التقارير المالي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CD76-D1CE-42C0-B757-D9291F0BE6C1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1466640"/>
            <a:ext cx="8153280" cy="1143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عن للعامل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3295800"/>
            <a:ext cx="792504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معلومات عن العاملين وأعدادهم وأعمارهم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9705-6CA9-4C0F-B75C-6F1DE5015656}" type="slidenum">
              <a:t>10</a:t>
            </a:fld>
          </a:p>
        </p:txBody>
      </p:sp>
    </p:spTree>
  </p:cSld>
  <p:transition>
    <p:random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153792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عن الموارد البش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3367080"/>
            <a:ext cx="784872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معلومات مالية عن تكلفة اختيار وتعيين وتدريب العامل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829A-07A8-461A-81E8-9F37EAA038A3}" type="slidenum">
              <a:t>11</a:t>
            </a:fld>
          </a:p>
        </p:txBody>
      </p:sp>
    </p:spTree>
  </p:cSld>
  <p:transition>
    <p:random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160920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الاجتما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3438360"/>
            <a:ext cx="7925040" cy="2438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لبيان كل من نفقات وعوائد المشروعات الاجتماعية وحماية البيئ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DECD-122B-45EA-8246-90C2CF37094D}" type="slidenum">
              <a:t>12</a:t>
            </a:fld>
          </a:p>
        </p:txBody>
      </p:sp>
    </p:spTree>
  </p:cSld>
  <p:transition>
    <p:random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145692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بالقيمة المضا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3438360"/>
            <a:ext cx="7848720" cy="2438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لبيان مدى مساهمة كل عامل من عوامل الانتاج في الدخل المحق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91320" y="6237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DAFF-C572-4905-A2A3-4B8782A259B4}" type="slidenum">
              <a:t>13</a:t>
            </a:fld>
          </a:p>
        </p:txBody>
      </p:sp>
    </p:spTree>
  </p:cSld>
  <p:transition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785160" y="2242440"/>
            <a:ext cx="7488000" cy="38973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طورت التقارير المالية من حيث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كمية المعلوم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نوع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طريقة عرض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الحد الادنى الضروري من المعلومات التي يجب الإفصا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   عنها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765000"/>
            <a:ext cx="7705440" cy="1079640"/>
          </a:xfrm>
          <a:prstGeom prst="bevel">
            <a:avLst>
              <a:gd name="adj" fmla="val 2644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طور التقارير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6345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3296-EE44-4B57-868E-AF5269905FAE}" type="slidenum">
              <a:t>2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792468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لماذا ظهرت الدعوة إلى تطوير التقارير المالية؟؟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1760" y="3352320"/>
            <a:ext cx="7848360" cy="18766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ffffff"/>
              </a:gs>
              <a:gs pos="100000">
                <a:srgbClr val="b2b2b2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لعدم وفاء التقارير المالية بشكلها الحالي باحتياجات المستفيدين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337B-87C5-490D-AE39-8438CC2B3933}" type="slidenum">
              <a:t>3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32040"/>
            <a:ext cx="7772400" cy="768240"/>
          </a:xfrm>
          <a:prstGeom prst="rect">
            <a:avLst/>
          </a:prstGeom>
          <a:gradFill rotWithShape="0">
            <a:gsLst>
              <a:gs pos="0">
                <a:srgbClr val="c5ffc5"/>
              </a:gs>
              <a:gs pos="50000">
                <a:srgbClr val="ffffff"/>
              </a:gs>
              <a:gs pos="100000">
                <a:srgbClr val="c5ffc5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ا هي مظاهر هذا التطور؟؟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43040" y="2000160"/>
            <a:ext cx="7772400" cy="4172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القطاع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متعددة الأغراض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الدورية (الفترية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المستقبل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الموجز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للعاملي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عن الموارد البشر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حاسبة الاجتماع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بالقيمة المضاف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91320" y="6345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213A-8739-40F8-9924-AC36F3FEC20D}" type="slidenum">
              <a:t>4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153792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القطا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3367080"/>
            <a:ext cx="822960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الافصاح حسب الانتاج أو المناطق الجغراف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5ABC-8319-437B-9641-4D8E3E08B198}" type="slidenum">
              <a:t>5</a:t>
            </a:fld>
          </a:p>
        </p:txBody>
      </p:sp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182052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متعددة الاغرا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3438360"/>
            <a:ext cx="8001000" cy="2438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عدة طرق مثل تكلفة الاحلال أو الجا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26C7-307E-49A3-A2FE-B21A02C9F351}" type="slidenum">
              <a:t>6</a:t>
            </a:fld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37920"/>
            <a:ext cx="7848720" cy="1143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الدورية (الفترية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3367080"/>
            <a:ext cx="784872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لفترات قصيرة ربع سنوية مثل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06FC-542F-40B8-8A81-E5D0A05E8602}" type="slidenum">
              <a:t>7</a:t>
            </a:fld>
          </a:p>
        </p:txBody>
      </p:sp>
    </p:spTree>
  </p:cSld>
  <p:transition>
    <p:random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1537920"/>
            <a:ext cx="79246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المستقبل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3367080"/>
            <a:ext cx="815364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قوائم معتمدة على تنبؤات مستقب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CD7F-4ACF-461A-BD37-ADE9F6EE6CD7}" type="slidenum">
              <a:t>8</a:t>
            </a:fld>
          </a:p>
        </p:txBody>
      </p:sp>
    </p:spTree>
  </p:cSld>
  <p:transition>
    <p:random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1142640"/>
            <a:ext cx="79246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الموجز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2971800"/>
            <a:ext cx="784872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ahoma"/>
                <a:cs typeface="PT Bold Heading"/>
              </a:rPr>
              <a:t>المختصر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8992-934D-4F05-AE5F-5FEDB5D9C5C6}" type="slidenum">
              <a:t>9</a:t>
            </a:fld>
          </a:p>
        </p:txBody>
      </p:sp>
    </p:spTree>
  </p:cSld>
  <p:transition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****</cp:lastModifiedBy>
  <dcterms:modified xsi:type="dcterms:W3CDTF">2003-12-07T21:54:19Z</dcterms:modified>
  <cp:revision>28</cp:revision>
  <dc:subject/>
  <dc:title>التحليل المالي والائتماني</dc:title>
</cp:coreProperties>
</file>